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DF5-6124-4A19-8782-40355669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6D8-FD1D-4E26-B095-241F0901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5A01-527F-4FEE-87C0-93886FE9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D22-CF94-4089-9331-64BDB359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85C-E0F7-43CC-B562-0D3DDBDF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479-FB60-4D88-920D-BCBE594B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395-F7E3-419E-BC4B-727B7A97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48A-57D6-4D23-8E2E-A205AB1F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E04-542D-4377-A3D9-B3738E3A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876-E16A-4CD3-B251-316914C9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F2B-644F-4E86-B7D7-3057F7F0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92D-A5AD-4280-8A97-1A5C70B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039E-FA60-44FF-A734-11A776EC2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ted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in 1945 by 51 countries committed to preserving peace through international cooperation and collective secur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, nearly every nation in the world belongs to the UN: membership totals 191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countries agree to uphold the UN Char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intain international peace and securit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friendly relations among nation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operate in solving international problems and in promoting respect for human righ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o be a centre for harmonizing the actions of n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Nations has six main organs. Five are based in the US in New York C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Assembl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urity Counc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conomic and Social Counc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usteeship Council and the Secretari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xth, the International Court of Justice, is located at The Hague in the Nether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Nations is not a world government and it does not make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vides the means to help resolve international conflicts and formulate policies on matters affecting all of 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Member States — large and small, rich and poor, with differing political views and social systems — have a voice and a vote in this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ted 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respect for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e environ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h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andards for safe and efficient air tra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improve tele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consumer prot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he international campaigns against drug trafficking and terro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agenc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refug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programmes to clear land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expand food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the fight against AID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illennium Development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 Millennium Development Goals (MDGs) –– form a blueprint agreed to by all the world’s countries and all the world’s leading development i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date of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1. Eradicate extreme poverty and hu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2. Achieve universal primary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3. Promote gender equality and empower w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4. Reduce child morta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5 Improve matern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6. Combat HIV/AIDS, malaria and other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7. Ensure environmental sustain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8. Develop a global partnership for 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3:48:58Z</dcterms:created>
  <dc:creator>admin</dc:creator>
  <dc:description/>
  <dc:language>en-US</dc:language>
  <cp:lastModifiedBy>DT06</cp:lastModifiedBy>
  <dcterms:modified xsi:type="dcterms:W3CDTF">2010-05-06T15:17:47Z</dcterms:modified>
  <cp:revision>9</cp:revision>
  <dc:subject/>
  <dc:title>The United Nations</dc:title>
</cp:coreProperties>
</file>